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28440" y="436320"/>
            <a:ext cx="739908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69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6200" y="1366560"/>
            <a:ext cx="8051760" cy="21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76200" y="3761280"/>
            <a:ext cx="8051760" cy="21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8440" y="436320"/>
            <a:ext cx="739908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69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6200" y="1366560"/>
            <a:ext cx="3929040" cy="21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02160" y="1366560"/>
            <a:ext cx="3929040" cy="21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76200" y="3761280"/>
            <a:ext cx="3929040" cy="21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02160" y="3761280"/>
            <a:ext cx="3929040" cy="21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28440" y="436320"/>
            <a:ext cx="739908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69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6200" y="1366560"/>
            <a:ext cx="2592360" cy="21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8520" y="1366560"/>
            <a:ext cx="2592360" cy="21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20840" y="1366560"/>
            <a:ext cx="2592360" cy="21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76200" y="3761280"/>
            <a:ext cx="2592360" cy="21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8520" y="3761280"/>
            <a:ext cx="2592360" cy="21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20840" y="3761280"/>
            <a:ext cx="2592360" cy="21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28440" y="436320"/>
            <a:ext cx="739908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6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76200" y="1366560"/>
            <a:ext cx="805176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28440" y="436320"/>
            <a:ext cx="739908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6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76200" y="1366560"/>
            <a:ext cx="805176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28440" y="436320"/>
            <a:ext cx="739908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6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76200" y="1366560"/>
            <a:ext cx="392904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02160" y="1366560"/>
            <a:ext cx="392904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8440" y="436320"/>
            <a:ext cx="739908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69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28440" y="436320"/>
            <a:ext cx="7399080" cy="35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28440" y="436320"/>
            <a:ext cx="739908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69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6200" y="1366560"/>
            <a:ext cx="3929040" cy="21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02160" y="1366560"/>
            <a:ext cx="392904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76200" y="3761280"/>
            <a:ext cx="3929040" cy="21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28440" y="436320"/>
            <a:ext cx="739908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69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6200" y="1366560"/>
            <a:ext cx="392904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2160" y="1366560"/>
            <a:ext cx="3929040" cy="21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02160" y="3761280"/>
            <a:ext cx="3929040" cy="21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28440" y="436320"/>
            <a:ext cx="739908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69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6200" y="1366560"/>
            <a:ext cx="3929040" cy="21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2160" y="1366560"/>
            <a:ext cx="3929040" cy="21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76200" y="3761280"/>
            <a:ext cx="8051760" cy="21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b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28440" y="436320"/>
            <a:ext cx="739908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692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f369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6200" y="1366560"/>
            <a:ext cx="805176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b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atmosphere-air_flip"/>
          <p:cNvPicPr/>
          <p:nvPr/>
        </p:nvPicPr>
        <p:blipFill>
          <a:blip r:embed="rId1"/>
          <a:srcRect l="0" t="13140" r="0" b="1460"/>
          <a:stretch/>
        </p:blipFill>
        <p:spPr>
          <a:xfrm>
            <a:off x="-187200" y="0"/>
            <a:ext cx="9572400" cy="7075440"/>
          </a:xfrm>
          <a:prstGeom prst="rect">
            <a:avLst/>
          </a:prstGeom>
          <a:ln w="0">
            <a:noFill/>
          </a:ln>
        </p:spPr>
      </p:pic>
      <p:sp>
        <p:nvSpPr>
          <p:cNvPr id="39" name="Text Box 11"/>
          <p:cNvSpPr/>
          <p:nvPr/>
        </p:nvSpPr>
        <p:spPr>
          <a:xfrm>
            <a:off x="476280" y="2125800"/>
            <a:ext cx="821196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0a0"/>
                </a:solidFill>
                <a:latin typeface="Arial"/>
              </a:rPr>
              <a:t>Monitoring Atmospheric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0a0"/>
                </a:solidFill>
                <a:latin typeface="Arial"/>
              </a:rPr>
              <a:t>Composition &amp; Climat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800" spc="-1" strike="noStrike">
                <a:solidFill>
                  <a:srgbClr val="0050a0"/>
                </a:solidFill>
                <a:latin typeface="Arial"/>
              </a:rPr>
              <a:t>Adrian Simmons, MACC coordinator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0a0"/>
                </a:solidFill>
                <a:latin typeface="Arial"/>
              </a:rPr>
              <a:t>(Presented by Dominique Marbouty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0a0"/>
                </a:solidFill>
                <a:latin typeface="Arial"/>
              </a:rPr>
              <a:t>European Centre for Medium-Range Weather Forecast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rcRect l="0" t="0" r="0" b="40411"/>
          <a:stretch/>
        </p:blipFill>
        <p:spPr>
          <a:xfrm>
            <a:off x="2543040" y="1260360"/>
            <a:ext cx="4073760" cy="99216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4479840" y="3170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FP7-transparent"/>
          <p:cNvPicPr/>
          <p:nvPr/>
        </p:nvPicPr>
        <p:blipFill>
          <a:blip r:embed="rId3"/>
          <a:stretch/>
        </p:blipFill>
        <p:spPr>
          <a:xfrm>
            <a:off x="8220240" y="6078600"/>
            <a:ext cx="831600" cy="676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4"/>
          <a:srcRect l="9089" t="24909" r="81465" b="64792"/>
          <a:stretch/>
        </p:blipFill>
        <p:spPr>
          <a:xfrm>
            <a:off x="66600" y="6078600"/>
            <a:ext cx="939960" cy="642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3295800" y="6283440"/>
            <a:ext cx="257328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b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10"/>
          <p:cNvGrpSpPr/>
          <p:nvPr/>
        </p:nvGrpSpPr>
        <p:grpSpPr>
          <a:xfrm>
            <a:off x="-27000" y="4041720"/>
            <a:ext cx="9163080" cy="2968560"/>
            <a:chOff x="-27000" y="4041720"/>
            <a:chExt cx="9163080" cy="2968560"/>
          </a:xfrm>
        </p:grpSpPr>
        <p:pic>
          <p:nvPicPr>
            <p:cNvPr id="114" name="Picture 9" descr="atmosphere-air_flip"/>
            <p:cNvPicPr/>
            <p:nvPr/>
          </p:nvPicPr>
          <p:blipFill>
            <a:blip r:embed="rId1"/>
            <a:srcRect l="0" t="64246" r="4358" b="0"/>
            <a:stretch/>
          </p:blipFill>
          <p:spPr>
            <a:xfrm>
              <a:off x="-19080" y="4048200"/>
              <a:ext cx="9155160" cy="29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10"/>
            <p:cNvSpPr/>
            <p:nvPr/>
          </p:nvSpPr>
          <p:spPr>
            <a:xfrm>
              <a:off x="-27000" y="4041720"/>
              <a:ext cx="9159840" cy="2936880"/>
            </a:xfrm>
            <a:prstGeom prst="rect">
              <a:avLst/>
            </a:prstGeom>
            <a:gradFill rotWithShape="0">
              <a:gsLst>
                <a:gs pos="0">
                  <a:srgbClr val="a0bee6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0" y="289080"/>
            <a:ext cx="91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0a0"/>
                </a:solidFill>
                <a:latin typeface="Arial"/>
              </a:rPr>
              <a:t>Data use and need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43000" y="870120"/>
            <a:ext cx="8762760" cy="57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8892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ACC makes extensive use of satellite data for assimilatio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8892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access presents few problems; data suppliers have made efforts to support near-real-time deliver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8892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s for future provision are progressing reasonabl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8892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inuity of limb-sounding is a concern for reactive-gas componen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8892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O replacement ?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2475"/>
              </a:spcBef>
              <a:buClr>
                <a:srgbClr val="000000"/>
              </a:buClr>
              <a:buFont typeface="Arial"/>
              <a:buChar char="•"/>
              <a:tabLst>
                <a:tab algn="l" pos="8892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tuation for in-situ observational data is more problematic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8892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ed in near-real-time for validation and increasingly for assimilatio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8892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is for prompt delivery, common coding standards, integrated global networks and archiving, network monitoring, …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8892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is for upper-air (ozonesonde, aircraft, …) as well as surface dat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2475"/>
              </a:spcBef>
              <a:buClr>
                <a:srgbClr val="000000"/>
              </a:buClr>
              <a:buFont typeface="Arial"/>
              <a:buChar char="•"/>
              <a:tabLst>
                <a:tab algn="l" pos="8892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timely data on emissions are needed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8892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MS used inventories for anthropogenic emissions based on 2003 or earli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b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10"/>
          <p:cNvGrpSpPr/>
          <p:nvPr/>
        </p:nvGrpSpPr>
        <p:grpSpPr>
          <a:xfrm>
            <a:off x="-27000" y="4041720"/>
            <a:ext cx="9163080" cy="2968560"/>
            <a:chOff x="-27000" y="4041720"/>
            <a:chExt cx="9163080" cy="2968560"/>
          </a:xfrm>
        </p:grpSpPr>
        <p:pic>
          <p:nvPicPr>
            <p:cNvPr id="119" name="Picture 9" descr="atmosphere-air_flip"/>
            <p:cNvPicPr/>
            <p:nvPr/>
          </p:nvPicPr>
          <p:blipFill>
            <a:blip r:embed="rId1"/>
            <a:srcRect l="0" t="64246" r="4358" b="0"/>
            <a:stretch/>
          </p:blipFill>
          <p:spPr>
            <a:xfrm>
              <a:off x="-19080" y="4048200"/>
              <a:ext cx="9155160" cy="29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Rectangle 10"/>
            <p:cNvSpPr/>
            <p:nvPr/>
          </p:nvSpPr>
          <p:spPr>
            <a:xfrm>
              <a:off x="-27000" y="4041720"/>
              <a:ext cx="9159840" cy="2936880"/>
            </a:xfrm>
            <a:prstGeom prst="rect">
              <a:avLst/>
            </a:prstGeom>
            <a:gradFill rotWithShape="0">
              <a:gsLst>
                <a:gs pos="0">
                  <a:srgbClr val="a0bee6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0" y="289080"/>
            <a:ext cx="91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0a0"/>
                </a:solidFill>
                <a:latin typeface="Arial"/>
              </a:rPr>
              <a:t>International coordina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243000" y="1112760"/>
            <a:ext cx="8680320" cy="55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8892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ACC builds on heritage of numerical weather predictio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892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s WMO BUFR code for near-real-time transfer of Europea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100000"/>
              </a:lnSpc>
              <a:tabLst>
                <a:tab algn="l" pos="0"/>
                <a:tab algn="l" pos="8892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ir-quality data for validating forecast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892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ts all input data to WMO BUFR code for assimilation in global syste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892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s WMO GRIB code for primary representation of model data fields (with converters to NetCDF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892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utilize WMO Information System and comply with European INSPIRE directiv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2475"/>
              </a:spcBef>
              <a:buClr>
                <a:srgbClr val="000000"/>
              </a:buClr>
              <a:buFont typeface="Arial"/>
              <a:buChar char="•"/>
              <a:tabLst>
                <a:tab algn="l" pos="8892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GEO initiative has the potential to address issues related to the needs for observational data and up-to-date inventorie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892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y should be harmonized with the activities of WMO/GAW, and support the full implementation of GCOS as the climate observing component of GEOS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2251"/>
              </a:spcBef>
              <a:tabLst>
                <a:tab algn="l" pos="0"/>
                <a:tab algn="l" pos="8892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b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0"/>
          <p:cNvGrpSpPr/>
          <p:nvPr/>
        </p:nvGrpSpPr>
        <p:grpSpPr>
          <a:xfrm>
            <a:off x="-27000" y="4041720"/>
            <a:ext cx="9163080" cy="2968560"/>
            <a:chOff x="-27000" y="4041720"/>
            <a:chExt cx="9163080" cy="2968560"/>
          </a:xfrm>
        </p:grpSpPr>
        <p:pic>
          <p:nvPicPr>
            <p:cNvPr id="124" name="Picture 9" descr="atmosphere-air_flip"/>
            <p:cNvPicPr/>
            <p:nvPr/>
          </p:nvPicPr>
          <p:blipFill>
            <a:blip r:embed="rId1"/>
            <a:srcRect l="0" t="64246" r="4358" b="0"/>
            <a:stretch/>
          </p:blipFill>
          <p:spPr>
            <a:xfrm>
              <a:off x="-19080" y="4048200"/>
              <a:ext cx="9155160" cy="29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Rectangle 10"/>
            <p:cNvSpPr/>
            <p:nvPr/>
          </p:nvSpPr>
          <p:spPr>
            <a:xfrm>
              <a:off x="-27000" y="4041720"/>
              <a:ext cx="9159840" cy="2936880"/>
            </a:xfrm>
            <a:prstGeom prst="rect">
              <a:avLst/>
            </a:prstGeom>
            <a:gradFill rotWithShape="0">
              <a:gsLst>
                <a:gs pos="0">
                  <a:srgbClr val="a0bee6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50840" y="950760"/>
            <a:ext cx="8894880" cy="560880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t">
            <a:normAutofit/>
          </a:bodyPr>
          <a:p>
            <a:pPr marL="270000" indent="0">
              <a:lnSpc>
                <a:spcPct val="90000"/>
              </a:lnSpc>
              <a:buNone/>
              <a:tabLst>
                <a:tab algn="l" pos="0"/>
                <a:tab algn="l" pos="2697120"/>
                <a:tab algn="l" pos="38577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EMS/MACC team at ECMW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349"/>
              </a:spcBef>
              <a:buNone/>
              <a:tabLst>
                <a:tab algn="l" pos="0"/>
                <a:tab algn="l" pos="2697120"/>
                <a:tab algn="l" pos="38577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nna Agusti-Panareda, Angela Benedetti,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349"/>
              </a:spcBef>
              <a:buNone/>
              <a:tabLst>
                <a:tab algn="l" pos="0"/>
                <a:tab algn="l" pos="2697120"/>
                <a:tab algn="l" pos="38577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Richard Engelen, Johannes Flemming,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349"/>
              </a:spcBef>
              <a:buNone/>
              <a:tabLst>
                <a:tab algn="l" pos="0"/>
                <a:tab algn="l" pos="2697120"/>
                <a:tab algn="l" pos="38577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ntje Inness, Luke Jones, Johannes Kaiser,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349"/>
              </a:spcBef>
              <a:buNone/>
              <a:tabLst>
                <a:tab algn="l" pos="0"/>
                <a:tab algn="l" pos="2697120"/>
                <a:tab algn="l" pos="38577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Jean-Jacques Morcrette, Miha Razinger,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349"/>
              </a:spcBef>
              <a:buNone/>
              <a:tabLst>
                <a:tab algn="l" pos="0"/>
                <a:tab algn="l" pos="2697120"/>
                <a:tab algn="l" pos="38577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drian Simmons, Martin Suttie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90000"/>
              </a:lnSpc>
              <a:spcBef>
                <a:spcPts val="1514"/>
              </a:spcBef>
              <a:buNone/>
              <a:tabLst>
                <a:tab algn="l" pos="0"/>
                <a:tab algn="l" pos="2697120"/>
                <a:tab algn="l" pos="38577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ACC Management Board memb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90000"/>
              </a:lnSpc>
              <a:buNone/>
              <a:tabLst>
                <a:tab algn="l" pos="0"/>
                <a:tab algn="l" pos="2697120"/>
                <a:tab algn="l" pos="38577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rom partner organiz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349"/>
              </a:spcBef>
              <a:buNone/>
              <a:tabLst>
                <a:tab algn="l" pos="0"/>
                <a:tab algn="l" pos="2697120"/>
                <a:tab algn="l" pos="38577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Olivier Boucher, Met Office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Frédéric Chevallier, CE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349"/>
              </a:spcBef>
              <a:buNone/>
              <a:tabLst>
                <a:tab algn="l" pos="0"/>
                <a:tab algn="l" pos="2697120"/>
                <a:tab algn="l" pos="38577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Hendrik Elbern, Univ. K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öln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Henk Eskes, KNMI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349"/>
              </a:spcBef>
              <a:buNone/>
              <a:tabLst>
                <a:tab algn="l" pos="0"/>
                <a:tab algn="l" pos="2697120"/>
                <a:tab algn="l" pos="38577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laire Granier,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d'Aéronomie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omas Holzer-Popp, DL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349"/>
              </a:spcBef>
              <a:buNone/>
              <a:tabLst>
                <a:tab algn="l" pos="0"/>
                <a:tab algn="l" pos="2697120"/>
                <a:tab algn="l" pos="38577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Øystein Hov, met.no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Vincent-Henri Peuch, M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étéo-Fran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349"/>
              </a:spcBef>
              <a:buNone/>
              <a:tabLst>
                <a:tab algn="l" pos="0"/>
                <a:tab algn="l" pos="2697120"/>
                <a:tab algn="l" pos="38577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Laurence Rouïl, INERIS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Martin Schultz, FZ J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ülich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349"/>
              </a:spcBef>
              <a:buNone/>
              <a:tabLst>
                <a:tab algn="l" pos="0"/>
                <a:tab algn="l" pos="2697120"/>
                <a:tab algn="l" pos="38577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Leonor Tarrason, NILU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90000"/>
              </a:lnSpc>
              <a:spcBef>
                <a:spcPts val="1514"/>
              </a:spcBef>
              <a:buNone/>
              <a:tabLst>
                <a:tab algn="l" pos="0"/>
                <a:tab algn="l" pos="2697120"/>
                <a:tab algn="l" pos="38577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nd all other team memb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0" y="284040"/>
            <a:ext cx="9153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0a0"/>
                </a:solidFill>
                <a:latin typeface="Arial"/>
              </a:rPr>
              <a:t>Acknowledgments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Hollingsworth AMS Photo"/>
          <p:cNvPicPr/>
          <p:nvPr/>
        </p:nvPicPr>
        <p:blipFill>
          <a:blip r:embed="rId2"/>
          <a:srcRect l="2062" t="4437" r="1375" b="8036"/>
          <a:stretch/>
        </p:blipFill>
        <p:spPr>
          <a:xfrm>
            <a:off x="5334120" y="1044720"/>
            <a:ext cx="2022480" cy="26683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7340760" y="1851120"/>
            <a:ext cx="171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n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llingsworth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1943-2007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b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0"/>
          <p:cNvGrpSpPr/>
          <p:nvPr/>
        </p:nvGrpSpPr>
        <p:grpSpPr>
          <a:xfrm>
            <a:off x="-27000" y="4041720"/>
            <a:ext cx="9163080" cy="2968560"/>
            <a:chOff x="-27000" y="4041720"/>
            <a:chExt cx="9163080" cy="2968560"/>
          </a:xfrm>
        </p:grpSpPr>
        <p:pic>
          <p:nvPicPr>
            <p:cNvPr id="46" name="Picture 9" descr="atmosphere-air_flip"/>
            <p:cNvPicPr/>
            <p:nvPr/>
          </p:nvPicPr>
          <p:blipFill>
            <a:blip r:embed="rId1"/>
            <a:srcRect l="0" t="64246" r="4358" b="0"/>
            <a:stretch/>
          </p:blipFill>
          <p:spPr>
            <a:xfrm>
              <a:off x="-19080" y="4048200"/>
              <a:ext cx="9155160" cy="29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Rectangle 10"/>
            <p:cNvSpPr/>
            <p:nvPr/>
          </p:nvSpPr>
          <p:spPr>
            <a:xfrm>
              <a:off x="-27000" y="4041720"/>
              <a:ext cx="9159840" cy="2936880"/>
            </a:xfrm>
            <a:prstGeom prst="rect">
              <a:avLst/>
            </a:prstGeom>
            <a:gradFill rotWithShape="0">
              <a:gsLst>
                <a:gs pos="0">
                  <a:srgbClr val="a0bee6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Rectangle 3"/>
          <p:cNvSpPr/>
          <p:nvPr/>
        </p:nvSpPr>
        <p:spPr>
          <a:xfrm>
            <a:off x="103320" y="1224000"/>
            <a:ext cx="887400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5000"/>
              </a:lnSpc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component of Europe’s Global Monitorin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Environment and Security initiativ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2880">
              <a:lnSpc>
                <a:spcPct val="10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lso provides services for land and ocea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5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e atmospheric programm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omprise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2880">
              <a:lnSpc>
                <a:spcPct val="10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ing operational space-based observation of constituent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2880">
              <a:lnSpc>
                <a:spcPct val="10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engthening the provision of complementar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-sit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bservation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2880">
              <a:lnSpc>
                <a:spcPct val="10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ing and operating associated data and information servic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5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CC is a 48-partner EC-funded project that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2880">
              <a:lnSpc>
                <a:spcPct val="10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implementing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nitoring an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casting servic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2880">
              <a:lnSpc>
                <a:spcPct val="10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support downstream services for specific secto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2880">
              <a:lnSpc>
                <a:spcPct val="10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llows-up previous GEMS (EC-FP7) and PROMOTE (ESA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5" descr="GMES-logo-trnasparent"/>
          <p:cNvPicPr/>
          <p:nvPr/>
        </p:nvPicPr>
        <p:blipFill>
          <a:blip r:embed="rId2"/>
          <a:stretch/>
        </p:blipFill>
        <p:spPr>
          <a:xfrm>
            <a:off x="6272280" y="1279440"/>
            <a:ext cx="280044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GMES-logo-transparent"/>
          <p:cNvPicPr/>
          <p:nvPr/>
        </p:nvPicPr>
        <p:blipFill>
          <a:blip r:embed="rId3"/>
          <a:stretch/>
        </p:blipFill>
        <p:spPr>
          <a:xfrm>
            <a:off x="6561000" y="4775040"/>
            <a:ext cx="2340000" cy="1162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184320" y="266760"/>
            <a:ext cx="87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0a0"/>
                </a:solidFill>
                <a:latin typeface="Arial"/>
              </a:rPr>
              <a:t>GMES atmospheric environmental servic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b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0"/>
          <p:cNvGrpSpPr/>
          <p:nvPr/>
        </p:nvGrpSpPr>
        <p:grpSpPr>
          <a:xfrm>
            <a:off x="-27000" y="4041720"/>
            <a:ext cx="9163080" cy="2968560"/>
            <a:chOff x="-27000" y="4041720"/>
            <a:chExt cx="9163080" cy="2968560"/>
          </a:xfrm>
        </p:grpSpPr>
        <p:pic>
          <p:nvPicPr>
            <p:cNvPr id="53" name="Picture 9" descr="atmosphere-air_flip"/>
            <p:cNvPicPr/>
            <p:nvPr/>
          </p:nvPicPr>
          <p:blipFill>
            <a:blip r:embed="rId1"/>
            <a:srcRect l="0" t="64246" r="4358" b="0"/>
            <a:stretch/>
          </p:blipFill>
          <p:spPr>
            <a:xfrm>
              <a:off x="-19080" y="4048200"/>
              <a:ext cx="9155160" cy="29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10"/>
            <p:cNvSpPr/>
            <p:nvPr/>
          </p:nvSpPr>
          <p:spPr>
            <a:xfrm>
              <a:off x="-27000" y="4041720"/>
              <a:ext cx="9159840" cy="2936880"/>
            </a:xfrm>
            <a:prstGeom prst="rect">
              <a:avLst/>
            </a:prstGeom>
            <a:gradFill rotWithShape="0">
              <a:gsLst>
                <a:gs pos="0">
                  <a:srgbClr val="a0bee6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 Box 10"/>
          <p:cNvSpPr/>
          <p:nvPr/>
        </p:nvSpPr>
        <p:spPr>
          <a:xfrm>
            <a:off x="184320" y="266760"/>
            <a:ext cx="87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0a0"/>
                </a:solidFill>
                <a:latin typeface="Arial"/>
              </a:rPr>
              <a:t>GMES atmospheric environmental servic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92040" y="1081080"/>
            <a:ext cx="8412120" cy="54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s related to the chemical and particulate content of the atmosphere, providing data and information o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forcing by greenhouse gases and aerosol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-range pollutant transpor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ropean air qualit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st outbreak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s for solar power generatio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V radiatio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 global and regional processing based on adapting the data assimilation and forecasting approaches of numerical weather predic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b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172"/>
          <p:cNvGrpSpPr/>
          <p:nvPr/>
        </p:nvGrpSpPr>
        <p:grpSpPr>
          <a:xfrm>
            <a:off x="-27000" y="4041720"/>
            <a:ext cx="9163080" cy="2968560"/>
            <a:chOff x="-27000" y="4041720"/>
            <a:chExt cx="9163080" cy="2968560"/>
          </a:xfrm>
        </p:grpSpPr>
        <p:pic>
          <p:nvPicPr>
            <p:cNvPr id="58" name="Picture 9" descr="atmosphere-air_flip"/>
            <p:cNvPicPr/>
            <p:nvPr/>
          </p:nvPicPr>
          <p:blipFill>
            <a:blip r:embed="rId1"/>
            <a:srcRect l="0" t="64246" r="4358" b="0"/>
            <a:stretch/>
          </p:blipFill>
          <p:spPr>
            <a:xfrm>
              <a:off x="-19080" y="4048200"/>
              <a:ext cx="9155160" cy="29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Rectangle 10"/>
            <p:cNvSpPr/>
            <p:nvPr/>
          </p:nvSpPr>
          <p:spPr>
            <a:xfrm>
              <a:off x="-27000" y="4041720"/>
              <a:ext cx="9159840" cy="2936880"/>
            </a:xfrm>
            <a:prstGeom prst="rect">
              <a:avLst/>
            </a:prstGeom>
            <a:gradFill rotWithShape="0">
              <a:gsLst>
                <a:gs pos="0">
                  <a:srgbClr val="a0bee6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Rectangle 2"/>
          <p:cNvSpPr/>
          <p:nvPr/>
        </p:nvSpPr>
        <p:spPr>
          <a:xfrm>
            <a:off x="6167520" y="241200"/>
            <a:ext cx="255420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0a0"/>
                </a:solidFill>
                <a:latin typeface="Arial"/>
              </a:rPr>
              <a:t>The MACC Consortium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5735520" y="1433520"/>
            <a:ext cx="324036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6 national entities (universities, national labs, environment agencies, …) from 18 European States, plus ECMWF and JRC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ners include 11 National Met Servic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pporting organizations comprise several other national institutes, EUMETSAT and WM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CMWF is project coordinato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09440" y="93600"/>
          <a:ext cx="5538960" cy="6720120"/>
        </p:xfrm>
        <a:graphic>
          <a:graphicData uri="http://schemas.openxmlformats.org/drawingml/2006/table">
            <a:tbl>
              <a:tblPr/>
              <a:tblGrid>
                <a:gridCol w="747720"/>
                <a:gridCol w="4471920"/>
                <a:gridCol w="319320"/>
              </a:tblGrid>
              <a:tr h="166320">
                <a:tc>
                  <a:txBody>
                    <a:bodyPr lIns="36000" rIns="36000" tIns="360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CMWF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360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ropean Centre for Medium-Range Weather Forecasts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360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KMET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 Office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K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26028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MD, LA, LISA, ICARE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420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e National de la Recherche Scientifique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A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issariat à l’Energie Atomique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LR 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utsches Zentrum für Luft- und Raumfahrt e.V.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PG 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-Planck-Gesellschaft zur Förderung der Wissenschaften e. V.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NMI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yal Netherlands Meteorological Institute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L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RA-IASB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titut d’aéronomie spatiale de Belgique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MI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lmatieteen Laitos - Finnish Meteorological Institute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MI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nish Meteorological Institute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K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WD 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utscher Wetterdienst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UP-UB 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versity of Bremen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MC-SA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versité Pierre et Marie Curie - Paris 6 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KUA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ional and Kapodistrian University of Athens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-CNRM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étéo-France - Centre National de Recherches Météorologiques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IG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ional University of Ireland, Galway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E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MHI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wedish Meteorological and Hydrological Institute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PA ER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PA Emilia Romagna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EMet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ncia Estatal de Meteorología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.NO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eorologisk Institutt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UUK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einisches Insti. für Umweltforschung an der Universität zu Köln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RC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ropean Commission - Joint Research Centre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RC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ERIS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titut National de l’Environnement Industriel et des Risques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6776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MI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zech Hydrometeorological Institute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Z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MA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ional Meteorological Administration, Romania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EP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titute of Environmental Protection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ERIAL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erial College of Science, Technology and Medicine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K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ZJ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schungszentrum Jülich GmbH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SO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vironmental Agency of the Republic of Slovenia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V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MINES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ociation pour la recherche et le développement des méthodes et processus industriels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ON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herlands Institute for Space Research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L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940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VLEEDS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versity of Leeds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K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CL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ing’s College London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K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UA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rije Universiteit, Amsterdam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L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BA_AT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weltbundesamt GmbH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NO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derlandse Organisatie voor toegepast-natuurwetenschappelijk onderzoek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L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RC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mbridge Environmental Research Consultants Ltd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K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GS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lo Gavazzi Space S.p.A.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yby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yby s.r.l.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RFACS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e Européen de Recherche et Formation avancée en Calcul Scientifique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NES 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e National d’Etudes Spatiales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LU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sk Institutt for Luftforskning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NR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ional Research Council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44720"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PA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ional Environmental Protection Agency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ed2f0"/>
                    </a:solidFill>
                  </a:tcPr>
                </a:tc>
              </a:tr>
              <a:tr h="166320">
                <a:tc>
                  <a:txBody>
                    <a:bodyPr lIns="36000" rIns="36000" tIns="14400" bIns="360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WS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360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versity of the West of Scotland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d2f0"/>
                    </a:solidFill>
                  </a:tcPr>
                </a:tc>
                <a:tc>
                  <a:txBody>
                    <a:bodyPr lIns="36000" rIns="36000" tIns="14400" bIns="36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K</a:t>
                      </a:r>
                      <a:endParaRPr b="0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d2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b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0"/>
          <p:cNvGrpSpPr/>
          <p:nvPr/>
        </p:nvGrpSpPr>
        <p:grpSpPr>
          <a:xfrm>
            <a:off x="-27000" y="4041720"/>
            <a:ext cx="9163080" cy="2968560"/>
            <a:chOff x="-27000" y="4041720"/>
            <a:chExt cx="9163080" cy="2968560"/>
          </a:xfrm>
        </p:grpSpPr>
        <p:pic>
          <p:nvPicPr>
            <p:cNvPr id="64" name="Picture 9" descr="atmosphere-air_flip"/>
            <p:cNvPicPr/>
            <p:nvPr/>
          </p:nvPicPr>
          <p:blipFill>
            <a:blip r:embed="rId1"/>
            <a:srcRect l="0" t="64246" r="4358" b="0"/>
            <a:stretch/>
          </p:blipFill>
          <p:spPr>
            <a:xfrm>
              <a:off x="-19080" y="4048200"/>
              <a:ext cx="9155160" cy="29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Rectangle 10"/>
            <p:cNvSpPr/>
            <p:nvPr/>
          </p:nvSpPr>
          <p:spPr>
            <a:xfrm>
              <a:off x="-27000" y="4041720"/>
              <a:ext cx="9159840" cy="2936880"/>
            </a:xfrm>
            <a:prstGeom prst="rect">
              <a:avLst/>
            </a:prstGeom>
            <a:gradFill rotWithShape="0">
              <a:gsLst>
                <a:gs pos="0">
                  <a:srgbClr val="a0bee6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Rectangle 9"/>
          <p:cNvSpPr/>
          <p:nvPr/>
        </p:nvSpPr>
        <p:spPr>
          <a:xfrm>
            <a:off x="0" y="307800"/>
            <a:ext cx="91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f3692"/>
                </a:solidFill>
                <a:latin typeface="Arial"/>
              </a:rPr>
              <a:t>Service structure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architecture_for_web_dark_long"/>
          <p:cNvPicPr/>
          <p:nvPr/>
        </p:nvPicPr>
        <p:blipFill>
          <a:blip r:embed="rId2"/>
          <a:stretch/>
        </p:blipFill>
        <p:spPr>
          <a:xfrm>
            <a:off x="204840" y="1176480"/>
            <a:ext cx="869472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b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-27000" y="4041720"/>
            <a:ext cx="9163080" cy="2968560"/>
            <a:chOff x="-27000" y="4041720"/>
            <a:chExt cx="9163080" cy="2968560"/>
          </a:xfrm>
        </p:grpSpPr>
        <p:pic>
          <p:nvPicPr>
            <p:cNvPr id="69" name="Picture 9" descr="atmosphere-air_flip"/>
            <p:cNvPicPr/>
            <p:nvPr/>
          </p:nvPicPr>
          <p:blipFill>
            <a:blip r:embed="rId1"/>
            <a:srcRect l="0" t="64246" r="4358" b="0"/>
            <a:stretch/>
          </p:blipFill>
          <p:spPr>
            <a:xfrm>
              <a:off x="-19080" y="4048200"/>
              <a:ext cx="9155160" cy="29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10"/>
            <p:cNvSpPr/>
            <p:nvPr/>
          </p:nvSpPr>
          <p:spPr>
            <a:xfrm>
              <a:off x="-27000" y="4041720"/>
              <a:ext cx="9159840" cy="2936880"/>
            </a:xfrm>
            <a:prstGeom prst="rect">
              <a:avLst/>
            </a:prstGeom>
            <a:gradFill rotWithShape="0">
              <a:gsLst>
                <a:gs pos="0">
                  <a:srgbClr val="a0bee6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00080" y="1009800"/>
            <a:ext cx="8980560" cy="566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"/>
          <p:cNvPicPr/>
          <p:nvPr/>
        </p:nvPicPr>
        <p:blipFill>
          <a:blip r:embed="rId2"/>
          <a:srcRect l="25302" t="23430" r="37495" b="14739"/>
          <a:stretch/>
        </p:blipFill>
        <p:spPr>
          <a:xfrm>
            <a:off x="343080" y="2359080"/>
            <a:ext cx="4078080" cy="4236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"/>
          <p:cNvPicPr/>
          <p:nvPr/>
        </p:nvPicPr>
        <p:blipFill>
          <a:blip r:embed="rId3"/>
          <a:srcRect l="15470" t="22297" r="39326" b="21872"/>
          <a:stretch/>
        </p:blipFill>
        <p:spPr>
          <a:xfrm>
            <a:off x="4792680" y="385920"/>
            <a:ext cx="4282920" cy="3306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"/>
          <p:cNvPicPr/>
          <p:nvPr/>
        </p:nvPicPr>
        <p:blipFill>
          <a:blip r:embed="rId4"/>
          <a:srcRect l="12341" t="17620" r="46736" b="63017"/>
          <a:stretch/>
        </p:blipFill>
        <p:spPr>
          <a:xfrm>
            <a:off x="96840" y="1014480"/>
            <a:ext cx="4564080" cy="13492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"/>
          <p:cNvSpPr/>
          <p:nvPr/>
        </p:nvSpPr>
        <p:spPr>
          <a:xfrm>
            <a:off x="77760" y="285840"/>
            <a:ext cx="8847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0a0"/>
                </a:solidFill>
                <a:latin typeface="Arial"/>
              </a:rPr>
              <a:t>Real-time aerosol forecasts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045040" y="3687840"/>
            <a:ext cx="4002120" cy="2904120"/>
            <a:chOff x="5045040" y="3687840"/>
            <a:chExt cx="4002120" cy="2904120"/>
          </a:xfrm>
        </p:grpSpPr>
        <p:grpSp>
          <p:nvGrpSpPr>
            <p:cNvPr id="77" name=""/>
            <p:cNvGrpSpPr/>
            <p:nvPr/>
          </p:nvGrpSpPr>
          <p:grpSpPr>
            <a:xfrm>
              <a:off x="5045040" y="3687840"/>
              <a:ext cx="4002120" cy="2830320"/>
              <a:chOff x="5045040" y="3687840"/>
              <a:chExt cx="4002120" cy="2830320"/>
            </a:xfrm>
          </p:grpSpPr>
          <p:pic>
            <p:nvPicPr>
              <p:cNvPr id="7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045040" y="3687840"/>
                <a:ext cx="4002120" cy="283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5207040" y="3949920"/>
                <a:ext cx="216000" cy="237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423040" y="6316560"/>
                <a:ext cx="27939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Text Box 6"/>
            <p:cNvSpPr/>
            <p:nvPr/>
          </p:nvSpPr>
          <p:spPr>
            <a:xfrm>
              <a:off x="5353560" y="6284880"/>
              <a:ext cx="298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ACC dust aerosol optical depth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b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10"/>
          <p:cNvGrpSpPr/>
          <p:nvPr/>
        </p:nvGrpSpPr>
        <p:grpSpPr>
          <a:xfrm>
            <a:off x="-27000" y="4041720"/>
            <a:ext cx="9163080" cy="2968560"/>
            <a:chOff x="-27000" y="4041720"/>
            <a:chExt cx="9163080" cy="2968560"/>
          </a:xfrm>
        </p:grpSpPr>
        <p:pic>
          <p:nvPicPr>
            <p:cNvPr id="83" name="Picture 9" descr="atmosphere-air_flip"/>
            <p:cNvPicPr/>
            <p:nvPr/>
          </p:nvPicPr>
          <p:blipFill>
            <a:blip r:embed="rId1"/>
            <a:srcRect l="0" t="64246" r="4358" b="0"/>
            <a:stretch/>
          </p:blipFill>
          <p:spPr>
            <a:xfrm>
              <a:off x="-19080" y="4048200"/>
              <a:ext cx="9155160" cy="29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Rectangle 10"/>
            <p:cNvSpPr/>
            <p:nvPr/>
          </p:nvSpPr>
          <p:spPr>
            <a:xfrm>
              <a:off x="-27000" y="4041720"/>
              <a:ext cx="9159840" cy="2936880"/>
            </a:xfrm>
            <a:prstGeom prst="rect">
              <a:avLst/>
            </a:prstGeom>
            <a:gradFill rotWithShape="0">
              <a:gsLst>
                <a:gs pos="0">
                  <a:srgbClr val="a0bee6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316160" y="971640"/>
            <a:ext cx="6535440" cy="39099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0" y="279360"/>
            <a:ext cx="914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0a0"/>
                </a:solidFill>
                <a:latin typeface="Arial"/>
              </a:rPr>
              <a:t>Global/regional system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014480" y="5183280"/>
            <a:ext cx="71420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obal components are incorporated within ECMWF’s core Integrated Forecasting System (IFS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gional ensemble comprises a set of nationally developed models run on a common European domai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b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10"/>
          <p:cNvGrpSpPr/>
          <p:nvPr/>
        </p:nvGrpSpPr>
        <p:grpSpPr>
          <a:xfrm>
            <a:off x="-27000" y="4041720"/>
            <a:ext cx="9163080" cy="2968560"/>
            <a:chOff x="-27000" y="4041720"/>
            <a:chExt cx="9163080" cy="2968560"/>
          </a:xfrm>
        </p:grpSpPr>
        <p:pic>
          <p:nvPicPr>
            <p:cNvPr id="89" name="Picture 9" descr="atmosphere-air_flip"/>
            <p:cNvPicPr/>
            <p:nvPr/>
          </p:nvPicPr>
          <p:blipFill>
            <a:blip r:embed="rId1"/>
            <a:srcRect l="0" t="64246" r="4358" b="0"/>
            <a:stretch/>
          </p:blipFill>
          <p:spPr>
            <a:xfrm>
              <a:off x="-19080" y="4048200"/>
              <a:ext cx="9155160" cy="29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Rectangle 10"/>
            <p:cNvSpPr/>
            <p:nvPr/>
          </p:nvSpPr>
          <p:spPr>
            <a:xfrm>
              <a:off x="-27000" y="4041720"/>
              <a:ext cx="9159840" cy="2936880"/>
            </a:xfrm>
            <a:prstGeom prst="rect">
              <a:avLst/>
            </a:prstGeom>
            <a:gradFill rotWithShape="0">
              <a:gsLst>
                <a:gs pos="0">
                  <a:srgbClr val="a0bee6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5160" y="888840"/>
            <a:ext cx="9034560" cy="552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4508" t="8097" r="14909" b="4554"/>
          <a:stretch/>
        </p:blipFill>
        <p:spPr>
          <a:xfrm>
            <a:off x="114480" y="3665520"/>
            <a:ext cx="4181400" cy="2486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rcRect l="4508" t="8097" r="14909" b="4554"/>
          <a:stretch/>
        </p:blipFill>
        <p:spPr>
          <a:xfrm>
            <a:off x="103320" y="1039680"/>
            <a:ext cx="4181400" cy="2486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289080"/>
            <a:ext cx="91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0a0"/>
                </a:solidFill>
                <a:latin typeface="Arial"/>
              </a:rPr>
              <a:t>Comparison of ozone reanalysis and ozonesonde dat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56200" y="1230480"/>
            <a:ext cx="338040" cy="22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33880" y="3882960"/>
            <a:ext cx="338040" cy="22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68960" y="4280040"/>
            <a:ext cx="4475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mb-sounding data assimilated in 2003 (MIPAS) and 2006-2008 (MLS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se data, especially MLS, are clearly beneficial.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MI are used from July 2007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106640" y="1376280"/>
            <a:ext cx="0" cy="45021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239920" y="1374840"/>
            <a:ext cx="0" cy="45021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89480" y="3665520"/>
            <a:ext cx="1098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78320" y="363384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 LS data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922560" y="1374840"/>
            <a:ext cx="0" cy="45021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rcRect l="4508" t="8097" r="4162" b="4554"/>
          <a:stretch/>
        </p:blipFill>
        <p:spPr>
          <a:xfrm>
            <a:off x="4275000" y="1039680"/>
            <a:ext cx="4743720" cy="2486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6400800" y="1413000"/>
            <a:ext cx="0" cy="2612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67160" y="1370160"/>
            <a:ext cx="0" cy="2612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b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0"/>
          <p:cNvGrpSpPr/>
          <p:nvPr/>
        </p:nvGrpSpPr>
        <p:grpSpPr>
          <a:xfrm>
            <a:off x="-27000" y="4041720"/>
            <a:ext cx="9163080" cy="2968560"/>
            <a:chOff x="-27000" y="4041720"/>
            <a:chExt cx="9163080" cy="2968560"/>
          </a:xfrm>
        </p:grpSpPr>
        <p:pic>
          <p:nvPicPr>
            <p:cNvPr id="107" name="Picture 9" descr="atmosphere-air_flip"/>
            <p:cNvPicPr/>
            <p:nvPr/>
          </p:nvPicPr>
          <p:blipFill>
            <a:blip r:embed="rId1"/>
            <a:srcRect l="0" t="64246" r="4358" b="0"/>
            <a:stretch/>
          </p:blipFill>
          <p:spPr>
            <a:xfrm>
              <a:off x="-19080" y="4048200"/>
              <a:ext cx="9155160" cy="29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Rectangle 10"/>
            <p:cNvSpPr/>
            <p:nvPr/>
          </p:nvSpPr>
          <p:spPr>
            <a:xfrm>
              <a:off x="-27000" y="4041720"/>
              <a:ext cx="9159840" cy="2936880"/>
            </a:xfrm>
            <a:prstGeom prst="rect">
              <a:avLst/>
            </a:prstGeom>
            <a:gradFill rotWithShape="0">
              <a:gsLst>
                <a:gs pos="0">
                  <a:srgbClr val="a0bee6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6"/>
          <p:cNvSpPr/>
          <p:nvPr/>
        </p:nvSpPr>
        <p:spPr>
          <a:xfrm>
            <a:off x="0" y="177840"/>
            <a:ext cx="91454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50a0"/>
                </a:solidFill>
                <a:latin typeface="Arial"/>
              </a:rPr>
              <a:t>Global availability of products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179280" y="4865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114480" y="974880"/>
            <a:ext cx="8759520" cy="57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lobal data products on atmospheric composition are publicly available with minimal conditions, from a reanalysi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or 2003-2007 and from daily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near-real-time forecast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31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omplementary conventiona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lobal meteorological data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roducts from the reanalysi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re similarly availabl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31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 new reanalysis for 2003-2010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ill be produced during MACC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31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ata dissemination system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ill evolve during MACC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ww.gmes-atmosphere.eu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31519" t="360" r="10326" b="5111"/>
          <a:stretch/>
        </p:blipFill>
        <p:spPr>
          <a:xfrm>
            <a:off x="4711680" y="2062080"/>
            <a:ext cx="42102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8T18:08:50Z</dcterms:created>
  <dc:creator>Isabella Weger</dc:creator>
  <dc:description/>
  <dc:language>en-US</dc:language>
  <cp:lastModifiedBy>ecmwf</cp:lastModifiedBy>
  <cp:lastPrinted>2000-06-06T09:03:16Z</cp:lastPrinted>
  <dcterms:modified xsi:type="dcterms:W3CDTF">2009-11-18T11:33:15Z</dcterms:modified>
  <cp:revision>615</cp:revision>
  <dc:subject>HPC market survey 2006</dc:subject>
  <dc:title>ECMWF HPC requirments</dc:title>
</cp:coreProperties>
</file>